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A27-F07F-4B44-A903-B59A50E0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897-BFA6-4457-9043-8C08139A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A32-F153-4AC7-B7C0-C3FEFB24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281-2DB0-453A-8752-0CC4EC33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617-F446-43E1-80A8-5F996914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EBC-D364-42CF-835A-2EACEC1F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557-2695-4E1A-B990-0BBAF585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73A-C67C-4005-9AB3-699934EF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5E8-5D1F-43ED-85EB-110FD23F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F10-3FF4-45E8-A845-EDAF8E15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77C-753B-4552-AB25-8820596C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CA1-AC6E-4D84-AAE4-E399A96D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D491-5622-4C25-9351-B93668961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Arial"/>
              </a:rPr>
              <a:t>backyard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railroa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paycheck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seashore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weekend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babysit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600" spc="-1" strike="noStrike">
                <a:solidFill>
                  <a:srgbClr val="000000"/>
                </a:solidFill>
                <a:latin typeface="Arial"/>
              </a:rPr>
              <a:t>schoolyard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athtub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600" spc="-1" strike="noStrike">
                <a:solidFill>
                  <a:srgbClr val="000000"/>
                </a:solidFill>
                <a:latin typeface="Arial"/>
              </a:rPr>
              <a:t>brainstorm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airplane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goldfis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everything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raindrop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lipstick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rowboat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700" spc="-1" strike="noStrike">
                <a:solidFill>
                  <a:srgbClr val="000000"/>
                </a:solidFill>
                <a:latin typeface="Arial"/>
              </a:rPr>
              <a:t>mailbox</a:t>
            </a:r>
            <a:endParaRPr b="0" lang="en-US" sz="19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anno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caught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800" spc="-1" strike="noStrike">
                <a:solidFill>
                  <a:srgbClr val="000000"/>
                </a:solidFill>
                <a:latin typeface="Arial"/>
              </a:rPr>
              <a:t>been</a:t>
            </a:r>
            <a:endParaRPr b="0" lang="en-US" sz="2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4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nowflak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whatever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600" spc="-1" strike="noStrike">
                <a:solidFill>
                  <a:srgbClr val="000000"/>
                </a:solidFill>
                <a:latin typeface="Arial"/>
              </a:rPr>
              <a:t>believe</a:t>
            </a:r>
            <a:endParaRPr b="0" lang="en-US" sz="2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whole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rough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watched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nothin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700" spc="-1" strike="noStrike">
                <a:solidFill>
                  <a:srgbClr val="000000"/>
                </a:solidFill>
                <a:latin typeface="Arial"/>
              </a:rPr>
              <a:t>catch</a:t>
            </a:r>
            <a:endParaRPr b="0" lang="en-US" sz="2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800" spc="-1" strike="noStrike">
                <a:solidFill>
                  <a:srgbClr val="000000"/>
                </a:solidFill>
                <a:latin typeface="Arial"/>
              </a:rPr>
              <a:t>suntan</a:t>
            </a:r>
            <a:endParaRPr b="0" lang="en-US" sz="2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tarfis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forever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400" spc="-1" strike="noStrike">
                <a:solidFill>
                  <a:srgbClr val="000000"/>
                </a:solidFill>
                <a:latin typeface="Arial"/>
              </a:rPr>
              <a:t>landlord</a:t>
            </a: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birthday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4:36:51Z</dcterms:created>
  <dc:creator> </dc:creator>
  <dc:description/>
  <dc:language>en-US</dc:language>
  <cp:lastModifiedBy>teacher</cp:lastModifiedBy>
  <dcterms:modified xsi:type="dcterms:W3CDTF">2010-11-14T02:27:54Z</dcterms:modified>
  <cp:revision>31</cp:revision>
  <dc:subject/>
  <dc:title>king</dc:title>
</cp:coreProperties>
</file>